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AF4-DBE2-405B-ACCB-54C55302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C6A-730B-4918-AD29-B064764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749-030C-466E-9478-22FE0EE0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E7A-ACFF-4508-9BA4-19DB99DA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F40A-592A-4C1A-9189-393F61FF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3B24-30C9-4937-8873-B35E69C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2C4-EC4C-4757-9309-B093E23F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091D-9EAA-4257-83A0-4BF61FB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5D9C-6F99-40E0-A6DA-59DC4697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7D11-353D-4B7E-980C-BE3704F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908F-8288-48FE-9E40-2831F9B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ED7-3559-4DFA-A374-E72173D8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E156-AF58-4689-BCB9-41CC15D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80B0-12CE-4A6B-A5FC-6C31161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84ED-A2D4-4A77-9867-BD16AD4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F2CA-F723-4A79-8E12-CE26D93B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BFAE-CB2A-42B8-A204-7CD33668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305-5F2D-4B21-87E3-4B351DC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4CE-E696-467E-9F19-4906A105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71B-4A7F-446E-AE8A-3BAA16F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9DD-3CFF-4EED-BB03-02D3CEE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7FF-5A47-4B9F-955B-C57BEED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D8B-8AA3-4B25-8BF3-C8480F12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25E-2976-4881-B94F-0C5004CA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D80B-DDD4-487E-BCDD-55FF591AB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EF58-7A1B-46D1-91DA-7002673257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DEVELOPMENT AND COMMUN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rity  in  mind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ous  with  your  belief  system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ssion and empat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ise   and  brevity  of  word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14880" y="1828800"/>
            <a:ext cx="5829120" cy="502920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 not  be---  disorganized,  lengthy ,  too  much  information , culturally  incorrec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ings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ing  for  a meet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 goal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 alternati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hip and  hi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outco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/resour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4120" y="43243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-house meeting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 agen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ten  word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    word  becomes  powerful  once  it  is  written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 ,  clarity  ,  brevity  ,  relevance ,   cul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ing  , grammar  ,  style  ,  cultural  factors  (colloquial    terms  , short  forms  etc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  spea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  prepar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ieve in  what  you  sa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r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 target  aud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 with  a messag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 a feedbac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1248" t="0" r="26251" b="0"/>
          <a:stretch/>
        </p:blipFill>
        <p:spPr>
          <a:xfrm>
            <a:off x="594360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 to  prep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 (timing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 (place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 (  should  people  listen 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247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verbal communication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 contac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ial 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89520" y="0"/>
            <a:ext cx="3354480" cy="5029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ous  lear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ve 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joying  challen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 like  a child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coming fear  of  fail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 are  short  term  goals  ,learning a long  term 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  basics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 big  question   is   where   to   start  outside  in  or  inside  out  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2588" r="0" b="14603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undation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ositive  think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ealthy  and  nourishing  die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hysical  activit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lance  and  harmony  with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urishing  die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 not  boiled  f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 not  depriv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 not  going   hung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 not  pills  and  table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 not  boring  and  tastel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ety  in  f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lle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  cha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uté  v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bs  and  flav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al  foo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o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sentials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2017800"/>
          <a:ext cx="8152920" cy="4114800"/>
        </p:xfrm>
        <a:graphic>
          <a:graphicData uri="http://schemas.openxmlformats.org/drawingml/2006/table">
            <a:tbl>
              <a:tblPr/>
              <a:tblGrid>
                <a:gridCol w="2717640"/>
                <a:gridCol w="2717640"/>
                <a:gridCol w="27176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le  fru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llow  and  orange  vegetab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en  leafy  vegetable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le  cereal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in  variety  and  dair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w  foods  like  salads  and  chutney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il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ts  and  oil  seed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ter  ,  fluid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 does  personality  devel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ing  for chan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ous lear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any  you  kee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 up  challen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 is  no  fail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08840" y="1828800"/>
            <a:ext cx="3035160" cy="50292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 will  it  happ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 one  is  uniqu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mstanc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3438360"/>
            <a:ext cx="4572000" cy="341964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3024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 method  to  transfer  thought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83024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 two  way 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8:51:59Z</dcterms:created>
  <dc:creator>Dinesh</dc:creator>
  <dc:description/>
  <dc:language>en-US</dc:language>
  <cp:lastModifiedBy>Lokesh</cp:lastModifiedBy>
  <dcterms:modified xsi:type="dcterms:W3CDTF">2008-02-05T11:42:53Z</dcterms:modified>
  <cp:revision>10</cp:revision>
  <dc:subject/>
  <dc:title>PERSONALITY DEVELOPMENT AND COMMUNICATIONS</dc:title>
</cp:coreProperties>
</file>